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32BD-9287-48BC-92D3-50FC7A39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3C6-5719-4E89-A775-963540BC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7DFD-FEE6-4488-A097-6E7B5EC2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C8E-971C-41CD-8693-D66C92BE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6CBB-07FC-4E60-A32C-AD3258FC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9C5E-900C-4FA8-A9DA-04F235DB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BAE6-CF8A-444D-BB1A-7E112A38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AE6-E99E-445E-83C1-58EE28D4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01B-3A17-41BD-84A5-3FAD38CC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8BB4-6511-4B8B-BF62-5CA2FDA9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0E86-B24B-46AB-9790-441E944B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760-C23F-4590-9501-06AAAC0B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93A0-FFAD-4543-84E5-08289DC15CB7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dsholder til dato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dsholder til sidefod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dsholder til dias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824C-D1C6-4C08-9369-6A1C617949E8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PCB fra bolig til bl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show_image"/>
          <p:cNvPicPr/>
          <p:nvPr/>
        </p:nvPicPr>
        <p:blipFill>
          <a:blip r:embed="rId1"/>
          <a:stretch/>
        </p:blipFill>
        <p:spPr>
          <a:xfrm>
            <a:off x="228600" y="2057400"/>
            <a:ext cx="4879800" cy="3124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5261400" y="2133720"/>
            <a:ext cx="3589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Birkhøjterrasserne 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  bygget med 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1970-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Renovering det sidste å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Mange lejligheder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  fraflyttet aller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Stor opmærksomhed 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  blandt beboere og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  p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kstboks 1"/>
          <p:cNvSpPr/>
          <p:nvPr/>
        </p:nvSpPr>
        <p:spPr>
          <a:xfrm>
            <a:off x="4339440" y="148608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Farum Midtpun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dsholder til dato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dsholder til sidefod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dsholder til dias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5F2F-5EB4-40E5-8786-C1B629215AED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Non-dioxin lignende PCB congen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2201400"/>
            <a:ext cx="762012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For ca. ½ af de 15 congenere (og for sumvariablen) var der højsignifikant forskel (p&lt;0,001) mellem Birkhøj- og andre terras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dsholder til dato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dsholder til sidefod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dsholder til dias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E19E-0853-4975-8F31-C2E00ABFA17F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67816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Resultater - dioxin-lignende PCB’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1066680" y="1295280"/>
          <a:ext cx="8077320" cy="53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8077320" cy="53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dsholder til dato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dsholder til sidefod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dsholder til dias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D83E-D339-4978-8026-3C33F3D405C4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PCB 1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3"/>
          <p:cNvGraphicFramePr/>
          <p:nvPr/>
        </p:nvGraphicFramePr>
        <p:xfrm>
          <a:off x="2057400" y="2286000"/>
          <a:ext cx="4724280" cy="32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86000"/>
                    <a:ext cx="47242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dsholder til dato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dsholder til sidefod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dsholder til dias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1B3C-FD46-40E5-9AE7-8A2276869E48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PCB 1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1371600" y="1859040"/>
          <a:ext cx="579132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859040"/>
                    <a:ext cx="579132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4"/>
          <p:cNvSpPr/>
          <p:nvPr/>
        </p:nvSpPr>
        <p:spPr>
          <a:xfrm>
            <a:off x="6539040" y="517212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P = 0,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dsholder til dato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dsholder til sidefod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dsholder til dias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9FFE-4062-4B3C-A252-92AA21583962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PCB 1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1752480" y="1905120"/>
          <a:ext cx="5639040" cy="41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05120"/>
                    <a:ext cx="563904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4"/>
          <p:cNvSpPr/>
          <p:nvPr/>
        </p:nvSpPr>
        <p:spPr>
          <a:xfrm>
            <a:off x="6768000" y="524844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P = 0,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dsholder til dato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dsholder til sidefod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dsholder til dias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C136-E283-4896-AC50-779EFFFF87B5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68580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PCB 1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1676520" y="990720"/>
          <a:ext cx="6858000" cy="48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90720"/>
                    <a:ext cx="685800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4"/>
          <p:cNvSpPr/>
          <p:nvPr/>
        </p:nvSpPr>
        <p:spPr>
          <a:xfrm>
            <a:off x="6768000" y="540072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P = 0,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dsholder til dato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dsholder til sidefod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dsholder til dias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2F1E-D682-4D9A-8B6F-E0DCA518B6B9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PCB Sum 12 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914400" y="1773360"/>
          <a:ext cx="6629400" cy="45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73360"/>
                    <a:ext cx="6629400" cy="45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Text Box 4"/>
          <p:cNvSpPr/>
          <p:nvPr/>
        </p:nvSpPr>
        <p:spPr>
          <a:xfrm>
            <a:off x="6615000" y="5248440"/>
            <a:ext cx="17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P &lt; 0,0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dsholder til dato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dsholder til sidefod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dsholder til dias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0EDD-13B8-4DFA-A8D3-575AF3F4DC2B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Dioxin-lignende PCB’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819440"/>
            <a:ext cx="7772400" cy="45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Følgende congenere lå under detektionsgrænsen for alle deltagere:</a:t>
            </a: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# 77, 81,</a:t>
            </a:r>
            <a:r>
              <a:rPr b="1" lang="da-DK" sz="3200" spc="-1" strike="noStrike">
                <a:solidFill>
                  <a:srgbClr val="000000"/>
                </a:solidFill>
                <a:latin typeface="Times New Roman"/>
              </a:rPr>
              <a:t>126</a:t>
            </a: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1" lang="da-DK" sz="3200" spc="-1" strike="noStrike">
                <a:solidFill>
                  <a:srgbClr val="000000"/>
                </a:solidFill>
                <a:latin typeface="Times New Roman"/>
              </a:rPr>
              <a:t>169</a:t>
            </a: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 – kun 2 deltagere over LO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Følgende congenere var højsignifikant højere i Birkhøj-beboere end i andre blokke (p&lt;0,0001): # 105, 114, 118, 123, samt summen af de 12 congen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dsholder til dato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dsholder til sidefod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dsholder til dias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02F4-D2FC-4349-8F4E-4298453DE0D8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PCB i blod: 3-4 klorato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771560" y="197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771560" y="1973160"/>
            <a:ext cx="560088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dsholder til dato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dsholder til sidefod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dsholder til dias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A261-DCDA-4DC8-A407-02715AC479AA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PCB i blod: 5 klorato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77156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1771560" y="1960560"/>
            <a:ext cx="56959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dsholder til dato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dsholder til sidefod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dsholder til dias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163C-8878-4FE2-ABC7-A2D46B45D38A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678204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PCB og Kø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3"/>
          <p:cNvGraphicFramePr/>
          <p:nvPr/>
        </p:nvGraphicFramePr>
        <p:xfrm>
          <a:off x="1219320" y="1523880"/>
          <a:ext cx="675468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7546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4"/>
          <p:cNvSpPr/>
          <p:nvPr/>
        </p:nvSpPr>
        <p:spPr>
          <a:xfrm>
            <a:off x="6935760" y="121932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p = 0,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dsholder til dato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dsholder til sidefod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dsholder til dias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E3C5-2DFD-4C24-85AE-89ED71E8AC75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PCB i blod: 6-7 klorato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89072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1890720" y="1967040"/>
            <a:ext cx="53640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dsholder til dato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dsholder til sidefod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dsholder til dias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0634-8E08-437F-ACFF-A4133C9AC4E8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Konklusion</a:t>
            </a: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Som forventet væsentlig højere niveauer af de lavtklorerede og lettere flygtige kongenere blandt de eksponere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Overraskende at der var ca. dobbelt så højt niveau af flere dioxin-lignende (og mere tungtflygtige) kongenere blandt de eksponere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Undersøgelsen støtter dermed ”forsigtighedsprincippet” som ligger bag Sundhedsstyrelsen vejledning, om renovering af boliger med forhøjede niveauer af PCB i luf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dsholder til dato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dsholder til sidefod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dsholder til dias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302F-821C-4BFE-889C-F728C66E3541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Bliver de syge af d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dsholder til dato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dsholder til sidefod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dsholder til dias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8470-FD35-4786-9D30-E4547A44BEE4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Bliver de syge af d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Det var ikke målet for denne undersøgelse at sv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dsholder til dato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dsholder til sidefod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dsholder til dias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352B-7203-41DD-A21B-CC28FB9DCB82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Bliver de syge af d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Men det gør de næp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dsholder til dato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dsholder til sidefod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dsholder til dias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0C29-A1F2-49D8-94DF-FB6402EBDE6A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Bliver de syge af d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Fordi niveauerne ikke er højere end de var generelt for 20-30 år si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Det hovedsageligt er NDL´erne som er mindre toksiske end 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Men hvis nu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Stofskifte (Thyreoideahormo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Immunapparat (Immunoglobuliner m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Leverfunktion (meget grove må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Andre endokrine funktioner (diabetes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Det lægger vi an til at kigge p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dsholder til dato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dsholder til sidefod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dsholder til dias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2242-490A-4E22-B38C-3105769509E7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dsholder til dato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dsholder til sidefod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dsholder til dias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EF35-2F54-4D96-A1BC-2CB329409E47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723744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Sammenhæng mellem køn og a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3"/>
          <p:cNvGraphicFramePr/>
          <p:nvPr/>
        </p:nvGraphicFramePr>
        <p:xfrm>
          <a:off x="1042920" y="1066680"/>
          <a:ext cx="77202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066680"/>
                    <a:ext cx="77202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dsholder til dato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dsholder til sidefod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dsholder til dias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97C5-0E42-4393-9995-7323D08A500C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900" spc="-1" strike="noStrike">
                <a:solidFill>
                  <a:srgbClr val="000000"/>
                </a:solidFill>
                <a:latin typeface="Times New Roman"/>
              </a:rPr>
              <a:t>Forskelle mellem eksponerede og ueksponere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838080" y="2133720"/>
            <a:ext cx="777240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Ekspo.  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Uekspo.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% kvinder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50,4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63,2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0,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Median alder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52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48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0,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Antal år i bolig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12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7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0,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(medi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Kostvaner (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Arial"/>
              </a:rPr>
              <a:t>≥ 1 x/uge)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Eksponerede: kød  , æg 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fisk  , grøntsager  , surmælk  , sødmælk  .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24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	</a:t>
            </a:r>
            <a:r>
              <a:rPr b="0" lang="da-DK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(Anders Ebbehø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"/>
          <p:cNvSpPr/>
          <p:nvPr/>
        </p:nvSpPr>
        <p:spPr>
          <a:xfrm>
            <a:off x="3429000" y="5486400"/>
            <a:ext cx="152280" cy="30492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2"/>
          <p:cNvSpPr/>
          <p:nvPr/>
        </p:nvSpPr>
        <p:spPr>
          <a:xfrm>
            <a:off x="4191120" y="5486400"/>
            <a:ext cx="152280" cy="30492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8153280" y="609588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4"/>
          <p:cNvSpPr/>
          <p:nvPr/>
        </p:nvSpPr>
        <p:spPr>
          <a:xfrm>
            <a:off x="5029200" y="60958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5"/>
          <p:cNvSpPr/>
          <p:nvPr/>
        </p:nvSpPr>
        <p:spPr>
          <a:xfrm>
            <a:off x="3276720" y="60199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6553080" y="6019920"/>
            <a:ext cx="152640" cy="30456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dsholder til dato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dsholder til sidefod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dsholder til dias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948F-1C02-4608-B14F-F008CC303F67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9403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dsholder til dato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dsholder til sidefod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dsholder til dias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E764-D415-442C-A7F5-96A17985AC27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678204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Resultater - non-dioxin lignende PCB’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1600200" y="1674720"/>
          <a:ext cx="47242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4720"/>
                    <a:ext cx="47242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1143000" y="1908000"/>
            <a:ext cx="66294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dsholder til dato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dsholder til sidefod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dsholder til dias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E3AC-7370-4E39-8016-1D477867396D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PCB 1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3"/>
          <p:cNvGraphicFramePr/>
          <p:nvPr/>
        </p:nvGraphicFramePr>
        <p:xfrm>
          <a:off x="1219320" y="2119320"/>
          <a:ext cx="5486400" cy="42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19320"/>
                    <a:ext cx="548640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4"/>
          <p:cNvSpPr/>
          <p:nvPr/>
        </p:nvSpPr>
        <p:spPr>
          <a:xfrm>
            <a:off x="5776920" y="529920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P&lt;0,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dsholder til dato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dsholder til sidefod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dsholder til dias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B194-4FCC-4880-80BD-3AA048F9662F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PCB 153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1447920" y="1523880"/>
          <a:ext cx="642456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42456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4"/>
          <p:cNvSpPr/>
          <p:nvPr/>
        </p:nvSpPr>
        <p:spPr>
          <a:xfrm>
            <a:off x="7530120" y="524844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P = 0,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dsholder til dato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Niels Ebbehø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dsholder til sidefod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t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dsholder til dias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393C-39CE-40D0-A0B0-CFB7FFEAFADA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23744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Sum af 15 N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1366920" y="1471680"/>
          <a:ext cx="731988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6920" y="1471680"/>
                    <a:ext cx="731988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4"/>
          <p:cNvSpPr/>
          <p:nvPr/>
        </p:nvSpPr>
        <p:spPr>
          <a:xfrm>
            <a:off x="7301160" y="509580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P &lt; 0,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7:41:01Z</dcterms:created>
  <dc:creator>Niels Ebbehøj</dc:creator>
  <dc:description/>
  <dc:language>en-US</dc:language>
  <cp:lastModifiedBy>Niels Ebbehøj</cp:lastModifiedBy>
  <dcterms:modified xsi:type="dcterms:W3CDTF">2013-04-15T20:45:23Z</dcterms:modified>
  <cp:revision>13</cp:revision>
  <dc:subject/>
  <dc:title>Og hvad kan vi så sige om Farum Midtpunkt?</dc:title>
</cp:coreProperties>
</file>